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knowledge attendees, self-introducti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y am I interested in this particular project?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 FAST networks + Supercomputers == Awesomene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ime allows, talk a little bit about the possibility of using DTrace for tracing inside application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urther analysis: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DC: based on OSCARS, available for test NOW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mphasize that our research would benefit our people, publications are good examples of how we could share our learning and outcome of the projec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xpress confidence in completing the projec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troduce the problem with an exampl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: 120TB over 4 month, NICS-NCAR, GridFTP, 70-200, Teragrid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work SolutionsIntra-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B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CE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WARPInter-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C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xplain the immediate focus is primarily on data analysis, since its logically the 1st step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: explain every item in a little bit detai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enchmark (mainly for Intra- datacenter networking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filing (both intra- and inter-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(perfSONAR, bwctl, OWAMP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ssive (SNMP, Net flow, etc.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erf: measure bandwidth performanc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: examine what happened inside the network, offering explanation for measurement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how the Collab site, esp. the resources secti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elude to our work: get to know the tools with personal machin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posed use of Magellan: emphasis on the availability of 100Gig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I Testbed showing both NEWY and BNL sites: 10GE / 20GE is enough to kickstart our experiment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oth “intra-” and “inter-” network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so iWARP is availabl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rief demonstration: how to connect via OpenVPN, how to log into SSH, Iperf, Ganglia (do some file transfer beforehand so something will show up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295960" y="9082080"/>
            <a:ext cx="571320" cy="582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5886360" y="9080640"/>
            <a:ext cx="1822680" cy="58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295960" y="9107640"/>
            <a:ext cx="571320" cy="58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886360" y="9105840"/>
            <a:ext cx="1822680" cy="5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295960" y="9107640"/>
            <a:ext cx="571320" cy="582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886360" y="9105840"/>
            <a:ext cx="1822680" cy="584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zl4ef@virginia.edu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79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An integrated study of datacenter networking and 100GigE wide-area networking in support of distributed scientific computing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4127040"/>
            <a:ext cx="1046484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Zhengyang Liu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University of  Virgini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zl4ef@virginia.edu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pt. 30, 2011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749304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This work was carried out as part of a sponsored research project from the NSF OCI-112734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uture Work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mmediate ToD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tinue Learn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ridFTP tests on ANI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er-process Monitoring Solution (DTrace?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 (nascent) Analyzing Framework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2514600" y="2870280"/>
            <a:ext cx="1270080" cy="127008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Iperf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2514600" y="4280040"/>
            <a:ext cx="1270080" cy="126972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Netflow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2514600" y="5689440"/>
            <a:ext cx="1270080" cy="127008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Gangli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2514600" y="7099200"/>
            <a:ext cx="1270080" cy="127008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DTrac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4356000" y="2870280"/>
            <a:ext cx="6121440" cy="127008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hat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 happen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4356000" y="4280040"/>
            <a:ext cx="6121440" cy="126972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hat happened inside the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network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4356000" y="5689440"/>
            <a:ext cx="6121440" cy="127008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hat happened inside the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4356000" y="7099200"/>
            <a:ext cx="6121440" cy="127008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hat happened inside the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application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uture Work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ithin 1st Yea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urther Analys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tegrate IDC with GridFTP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ublish Resul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uture Work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nish the Project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blem Statemen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oor end-to-end application-level performa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200MB/s over 10Gb/s connection -&gt; less than 20% utiliz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blem Statemen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ata Analys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tworking Solutions Evalu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w Technology Develop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Data Analysi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pplic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enchma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fil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t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ctive Measurem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assive Measurem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urrent Work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earn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visit Networking:  A Statistical Approac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atacenter Networking: InfiniBand, RoCE, iWARP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perf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tflow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urrent Work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eliminary Tests on Our Own Resourc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C / VM / EC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tting familiar with tools: GridFTP, Ganglia, etc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eliminary Tests on ANI Testb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60240"/>
            <a:ext cx="13004640" cy="842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0" y="660240"/>
            <a:ext cx="13004640" cy="842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Demo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